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2680"/>
            <a:ext cx="77724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14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26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26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250236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1480"/>
            <a:ext cx="250236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1480"/>
            <a:ext cx="250236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2680"/>
            <a:ext cx="250236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2680"/>
            <a:ext cx="250236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2680"/>
            <a:ext cx="250236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BF777-32DA-4AD8-A801-C11C6394A4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7148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00661-4517-477A-9EA2-E55A529F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2B7AE-156C-484B-ABDE-17B0B2CA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379260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71480"/>
            <a:ext cx="379260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1F001-1764-4D4B-8FD1-8ADAB01C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04504-E4DE-4AA7-AC85-1712740E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711000"/>
            <a:ext cx="7772400" cy="37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4E669-4CB0-4724-86B5-1993349B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1480"/>
            <a:ext cx="379260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826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6B3AF-38D1-41E2-9F22-61410143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148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379260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714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9826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D409E-42B9-4F97-8D4F-969C590F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714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82680"/>
            <a:ext cx="77724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D1005-B6CD-4213-B505-4634F0E0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82680"/>
            <a:ext cx="77724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83097-BB7F-48EA-9ABC-2EE4830C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714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826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9826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5767F-FD80-452F-BA2E-EE4B2347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250236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71480"/>
            <a:ext cx="250236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71480"/>
            <a:ext cx="250236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82680"/>
            <a:ext cx="250236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982680"/>
            <a:ext cx="250236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982680"/>
            <a:ext cx="250236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A665A-6B03-43E6-B556-2AD2364AA9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379260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1480"/>
            <a:ext cx="379260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11000"/>
            <a:ext cx="7772400" cy="37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1480"/>
            <a:ext cx="379260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26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379260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14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26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1480"/>
            <a:ext cx="37926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2680"/>
            <a:ext cx="7772400" cy="21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148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29600" y="6400800"/>
            <a:ext cx="4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9864448-2EC9-4041-938C-9F901145F5C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78160" cy="128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0172-20EF-41C1-ADE1-12EBB029F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7620120" cy="228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3333cc"/>
              </a:buClr>
              <a:buSzPct val="12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3333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58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Contents of PSE - </a:t>
            </a:r>
            <a:br>
              <a:rPr sz="3000"/>
            </a:b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Certificate Enrollment and Lifecycle</a:t>
            </a: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4520" y="3809880"/>
            <a:ext cx="26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ada Kapidzic Cicov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ntegrity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End Entity Certificate Enrollment</a:t>
            </a: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t the RA/C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d Entity initiated: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rowser based with user interaction (PKCS #10/#7 with name/value pairs over SSL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KI client based with possibility for automation (PKIX CMP/CMC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idea of standardization of enrollment information was initiated during PKI Forum driven PKIX CMP interoperability test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Enrollment/Policy Information</a:t>
            </a: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RA/CA details: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sponder address (e.g., “http://www.myCA.com/responder”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eferred transport protocol (e.g., http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eferred PKI protocol (e.g., PKIX CMP, CMC)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shared secret used for authentication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allowed/required fields in the enrollment certificate template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EE naming info, as registered by the RA/C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RA/CA supported key types, key usage, key size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key generators (e.g. non-repudiation keys generated by end-entity, encryption keys by RA/CA)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Why Standardize?</a:t>
            </a: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enable interoperability between PKI Clients and RA/CA from different vendo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boost deployment of PKIX CMP/CMC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enable smooth certificate enrollment, renewal, and revocation when initiated at E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11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tandardization</a:t>
            </a:r>
            <a:endParaRPr b="1" lang="en-US" sz="3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SE - personal security environment - should be stored on the EE tok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ization in Sacr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r alternatively in PKCS #15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r both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1T07:02:29Z</dcterms:created>
  <dc:creator>John Hughes</dc:creator>
  <dc:description/>
  <dc:language>en-US</dc:language>
  <cp:lastModifiedBy>Nada Kapidzic Cicovic</cp:lastModifiedBy>
  <cp:lastPrinted>2001-02-02T08:57:37Z</cp:lastPrinted>
  <dcterms:modified xsi:type="dcterms:W3CDTF">2001-04-05T10:53:59Z</dcterms:modified>
  <cp:revision>233</cp:revision>
  <dc:subject/>
  <dc:title>No Slide Title</dc:title>
</cp:coreProperties>
</file>